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031E4-127B-4417-9143-A6D32F3CE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51066-EA22-4B51-B16B-6AF972304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43966-AF45-4D75-B558-0F3640DA6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AFF74-E411-43A7-AB6F-235EF7AC9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3D1CFD-43FD-44C4-A24E-B7C533A2F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6F239-674B-4E73-A968-9A4134532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10CCF-1C25-474A-8B84-51146A6B2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41781-E345-4354-927C-A1E660F72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AD191-F569-41BE-958B-D1227EEDA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F230B-0D63-4761-89F1-EF5581D4C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95C6A-054A-408B-AB15-1C82D951F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F57CB-9A7F-40F3-9FF0-FC0E4FE15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9846A-27E2-4BE9-9ED7-158012F41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FA5BC-A0F0-4F43-98AD-1BB6F7DAC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C4F78-1382-4B24-8F1A-9C617FFCB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064D7-88E0-4BB8-8B90-D5389A760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F4409-AF6E-4E3F-8E27-74AEB689E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AD7A3-A77C-429B-99C6-D2C5B88FF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31286-A0EA-4A67-963F-DB511822F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A04C7-DB40-4A37-AFCE-7A51EC967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4F65E-DA4B-4690-A17D-C28F87EBC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B5791-66C6-4530-B954-60B8F7EB0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B847D-E620-44AE-B4E6-323C803D2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49BB8-EA8F-4109-A769-B5D7208E2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8C2E-1E0D-4CBD-81D8-3CD003E0BE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4B9B-7DAE-4AAA-ACFE-27425EB0CB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371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Great Black Bear</a:t>
            </a:r>
            <a:endParaRPr b="0" lang="en-US" sz="4400" spc="-1" strike="noStrike">
              <a:solidFill>
                <a:srgbClr val="ffcc66"/>
              </a:solidFill>
              <a:latin typeface="Arial"/>
            </a:endParaRPr>
          </a:p>
        </p:txBody>
      </p:sp>
      <p:sp>
        <p:nvSpPr>
          <p:cNvPr id="89" name="PlaceHolder 2"/>
          <p:cNvSpPr>
            <a:spLocks noGrp="1"/>
          </p:cNvSpPr>
          <p:nvPr>
            <p:ph type="subTitle"/>
          </p:nvPr>
        </p:nvSpPr>
        <p:spPr>
          <a:xfrm>
            <a:off x="0" y="2819520"/>
            <a:ext cx="9144000" cy="27432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niel Ascencio</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10A5-F8BA-4010-A73A-B63391DC2A39}" type="datetime2">
              <a:rPr b="0" lang="en-US" sz="3200" spc="-1" strike="noStrike">
                <a:solidFill>
                  <a:srgbClr val="ffffff"/>
                </a:solidFill>
                <a:latin typeface="Times New Roman"/>
              </a:rPr>
              <a:t>Thursday, July 30, 2026</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urpose of my movie is going to tell the viewers about my topic the Black Bear. I’m going to tell about it by telling them where it lives, what it eats, how it got its name, and where they are mostly found in the world.</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 Your Idea</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ll explain some facts about the Black Bea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ain habitat of the black bear is in north Americ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lack bear got its name by the color of its fu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he black bear eats is salmon, abundant herbs, forbs, fruits, berries, nuts, and other plant parts and product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lack bear lives in largely forested area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siness Model</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will make the money by telling people that it will be nice to watch the video because it will be inspirational to people who love Black Bears. I will show the video to people at the zoo and at school.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 movie will be special and different by me telling the audience that it will teach you about the Black Bear and their habi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t Tips</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alk slowly and clearly</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enthusiastic</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actice, Practice and Practice</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lax and have fu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20:36:52Z</dcterms:created>
  <dc:creator/>
  <dc:description/>
  <dc:language>en-US</dc:language>
  <cp:lastModifiedBy>City School</cp:lastModifiedBy>
  <dcterms:modified xsi:type="dcterms:W3CDTF">2013-02-21T21:29:55Z</dcterms:modified>
  <cp:revision>41</cp:revision>
  <dc:subject/>
  <dc:title>The Pitch-Then-Plan Business Planning Template</dc:title>
</cp:coreProperties>
</file>